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10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1AA0-CD6C-4821-9967-137559DD5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E617-64F4-4C7A-B8D6-0F18B8FF9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1141-1811-465C-B3F1-6AB4C3B88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BC9B-4674-4479-A350-E42747F3E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440C-1108-4C26-BD6D-C2D7A9823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77EB-8636-42AC-AF1B-176A1D009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F327-F464-47C9-9044-CEEC50FFC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DCCA-C581-45F6-84A2-9A323B26C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14A4-CF7D-483F-AF73-CB21491E8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1920-4CBB-4B2B-AC46-BE737E48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37FE-EDF2-4F34-B034-3AEDE1801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DA60-D119-4007-83EB-6DC9C045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0B08A-94E3-47A5-A9B9-DA70F55D6B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229600" y="152280"/>
            <a:ext cx="457200" cy="4543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52280" y="249120"/>
            <a:ext cx="152424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embrandt0.uva.netherlight.nl/rtpl/das3/table/net_data.html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cs.vu.nl/das3/sites-vu.shtml" TargetMode="External"/><Relationship Id="rId2" Type="http://schemas.openxmlformats.org/officeDocument/2006/relationships/hyperlink" Target="http://www.starplane.org/" TargetMode="External"/><Relationship Id="rId3" Type="http://schemas.openxmlformats.org/officeDocument/2006/relationships/hyperlink" Target="http://www.science.uva.nl/research/sne/ndl" TargetMode="External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SCARIe: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using StarPlane and DAS-3</a:t>
            </a: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ola Gross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mien March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es de La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NE group - Uv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StarPlane: WSS</a:t>
            </a: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5334120" cy="40831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638680" y="2209680"/>
            <a:ext cx="32004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SS will allow us to redirect a selected input color to the output fi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is allows us to flexibly reconfigure the network according to the application demand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oal of StarPlane is sub-second switching, and topology reconfigur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943600" y="2814480"/>
            <a:ext cx="3003480" cy="38862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200400" y="2738520"/>
            <a:ext cx="3063960" cy="39621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73080" y="2509920"/>
            <a:ext cx="3355920" cy="4343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524400" y="1976400"/>
            <a:ext cx="180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pology examp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2357280"/>
            <a:ext cx="1295640" cy="609840"/>
          </a:xfrm>
          <a:custGeom>
            <a:avLst/>
            <a:gdLst/>
            <a:ahLst/>
            <a:rect l="l" t="t" r="r" b="b"/>
            <a:pathLst>
              <a:path w="816" h="384">
                <a:moveTo>
                  <a:pt x="816" y="0"/>
                </a:moveTo>
                <a:cubicBezTo>
                  <a:pt x="596" y="16"/>
                  <a:pt x="376" y="32"/>
                  <a:pt x="240" y="96"/>
                </a:cubicBezTo>
                <a:cubicBezTo>
                  <a:pt x="104" y="160"/>
                  <a:pt x="40" y="336"/>
                  <a:pt x="0" y="3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38680" y="2192400"/>
            <a:ext cx="1524240" cy="698400"/>
          </a:xfrm>
          <a:custGeom>
            <a:avLst/>
            <a:gdLst/>
            <a:ahLst/>
            <a:rect l="l" t="t" r="r" b="b"/>
            <a:pathLst>
              <a:path w="960" h="440">
                <a:moveTo>
                  <a:pt x="0" y="104"/>
                </a:moveTo>
                <a:cubicBezTo>
                  <a:pt x="304" y="52"/>
                  <a:pt x="608" y="0"/>
                  <a:pt x="768" y="56"/>
                </a:cubicBezTo>
                <a:cubicBezTo>
                  <a:pt x="928" y="112"/>
                  <a:pt x="928" y="376"/>
                  <a:pt x="960" y="4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2433600"/>
            <a:ext cx="1440" cy="533520"/>
          </a:xfrm>
          <a:custGeom>
            <a:avLst/>
            <a:gdLst/>
            <a:ahLst/>
            <a:rect l="l" t="t" r="r" b="b"/>
            <a:pathLst>
              <a:path w="1" h="336">
                <a:moveTo>
                  <a:pt x="0" y="0"/>
                </a:moveTo>
                <a:cubicBezTo>
                  <a:pt x="0" y="140"/>
                  <a:pt x="0" y="280"/>
                  <a:pt x="0" y="3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StarPlane: topology changes</a:t>
            </a: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StarPlane and NDL</a:t>
            </a: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ile on topologies. SNE group is working on NDL - Network Description Languag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DL is an  RDF data model, based on idea of Semantic Web, for network topology description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 StarPlane we are researching use of NDL for topology exchange and topology requests from clien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227320" y="3559320"/>
            <a:ext cx="468936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StarPlane: status (1)</a:t>
            </a: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rst light between sites over the CPL infrastructu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ing of connections being worked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http://rembrandt0.uva.netherlight.nl/rtpl/das3/table/net_data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no dynamic control over lightpaths ye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52280" y="3200400"/>
            <a:ext cx="8839440" cy="21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StarPlane: status(2)</a:t>
            </a: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on between the management plane and DRAC over a testb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743200" y="2570040"/>
            <a:ext cx="5513400" cy="41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Conclusions</a:t>
            </a: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ference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S-3 website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http://www.cs.vu.nl/das3/sites-vu.shtm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Plane website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http://www.starplane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DL websi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ahoma"/>
                <a:hlinkClick r:id="rId3"/>
              </a:rPr>
              <a:t>http://www.science.uva.nl/research/sne/nd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Questions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w for the discussion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For discussion</a:t>
            </a: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 of DAS-3 and StarPlane for SCARIe software correlati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es the DAS-3 supercomputer provide a suitable environment for software correlation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Computing power and number of nodes is adequate?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Grid software suited to requirements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ta needs to be on the DAS-3 cluste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How do we move the data in real-time to the cluster? Or we just focus on ust offline correlation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Do we have a lightpath connection to JIVE? From where to where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pology reques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What are the optimal photonic topologies for software correlations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goal of my presentation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 give an overview of the DAS-3 and StarPlane architecture, their current status and outline which use SCARIe research can do on these infrastructur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sequently the outline of this talk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of DAS-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of StarPla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urrent status of DAS-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urrent status of StarPla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CARIe use of DAS-3 and StarPla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Some basics…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S-3 is the ASCI distributed supercomputer, or better said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tribute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CI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percomput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S-3 is the third generation of D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Plane is an NWO-funded projec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Plane goal is to develop the middleware for application controlled photonic network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Plane performs its research on a portion of SURFnet6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DAS-3: goals</a:t>
            </a: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goal of DAS is to provide a common computational infrastructure for researchers within ASCI, who work on various aspects of parallel and distributed systems, including communication substrates, programming environments, and application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Quoting Henri Bal - VU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6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llel processing on multiple clust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udy non-trivially parallel applic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ploit hierarchical structure for locality optimiz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tency hiding, message combining, etc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5410080" cy="37767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DAS-3: cluster architecture</a:t>
            </a: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ve clusters in four locations: UvA, VU, Leiden and Delft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wo clusters at the Uv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ey component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 head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] cluster nod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/university interconne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interconne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tonic interconne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DAS-3: clusters setup</a:t>
            </a: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5800" y="1981080"/>
          <a:ext cx="7772400" cy="4375440"/>
        </p:xfrm>
        <a:graphic>
          <a:graphicData uri="http://schemas.openxmlformats.org/drawingml/2006/table">
            <a:tbl>
              <a:tblPr/>
              <a:tblGrid>
                <a:gridCol w="1360440"/>
                <a:gridCol w="1100160"/>
                <a:gridCol w="1101600"/>
                <a:gridCol w="1101960"/>
                <a:gridCol w="1165320"/>
                <a:gridCol w="1164960"/>
                <a:gridCol w="77796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U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vA-M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T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 stor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T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T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T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T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T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T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 CP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x2.4GHz D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x2.4GHz D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x2.2GHz D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x2.2GHz D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x2.4GHz D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6GH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 mem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G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G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G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G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G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G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 Myri 10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98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 10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u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 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 stor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0G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0G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0G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x250G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0G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9T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 CP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x2.6GH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x2.4GH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x2.2GHz D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x2.4GH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x2.4GHz D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9TH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 mem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G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G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G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G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G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84G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 Myri 10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98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yrin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 10G por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 (7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 (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 10GE por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t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 1GE por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 (1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6 (8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 (8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 (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5 (1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 10GE por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 (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DAS-3:  status</a:t>
            </a: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 of today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site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rational with cluster and head nodes and bridge nodes installed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[Bridge nodes are used to connect to the photonic network, while the performance of the Myrinet cards is under test]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 accounts availabl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Jobs can run on individual clusters not between cluster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rid software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GE is the preferred schedul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LOBUS and KOALA are installed but not operationa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PICH-G2 is not install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yrinet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witchcards installed but not operationa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sts of Myrinet-Ethernet bridgin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DAS-3: photonic network</a:t>
            </a: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888080" y="3594240"/>
            <a:ext cx="4865400" cy="3511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1598760"/>
            <a:ext cx="4648320" cy="40021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181480" y="1752480"/>
            <a:ext cx="32004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LAN connection to the University network, via Ethernet switch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WAN/StarPlane connection to CPL, via Ethernet “bridging” card in a Myrinet swit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-149040" y="5315040"/>
            <a:ext cx="55497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nection from each site 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 OADM (fixed) equipment -Optical Add Drop Multiplex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 WSS - Wavelength Selectable Switches- in Amsterda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StarPlane: goals</a:t>
            </a: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Plane is a NWO funded project with major contributions from SURFnet and NORTEL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Plane will use the physical infrastructure provided by SURFnet6 and the distributed supercomputer DAS-3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vision is to allow part of the photonic network infrastructure of SURFnet6 to be manipulated by Grid applications to optimize the performance of specific e-Science application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novelty: to give flexibility directly to the applications by allowing them to choose the logical topology in</a:t>
            </a:r>
            <a:r>
              <a:rPr b="0" lang="en-US" sz="1800" spc="-1" strike="noStrike">
                <a:solidFill>
                  <a:srgbClr val="66ffcc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l time, ultimately with subsecond lambda switching tim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4T07:38:51Z</dcterms:created>
  <dc:creator>Paola  Grosso</dc:creator>
  <dc:description/>
  <dc:language>en-US</dc:language>
  <cp:lastModifiedBy>Paola Grosso</cp:lastModifiedBy>
  <dcterms:modified xsi:type="dcterms:W3CDTF">2007-05-14T13:25:20Z</dcterms:modified>
  <cp:revision>18</cp:revision>
  <dc:subject/>
  <dc:title>SCARIe: using StarPlane and DAS-3</dc:title>
</cp:coreProperties>
</file>